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41A67C-D80F-4E1B-BE72-A2BDAE9D8A4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33ECF-5888-4E59-A5DC-9AF9175ADC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C83635-750D-40EA-B0DD-FBEA9E8535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259167-1442-4D4A-909C-57AE7853145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4192A4-4877-43D1-A924-9CEE97C5A1F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06A81D-F318-4403-B511-7B3EDDC8E0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30CF13-07F7-4591-834A-2E2B3F58C3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271A22-5D4E-42C6-94A2-AFB507912A1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B70A82-195C-4E78-B847-0BDF3DA968A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AE0BF1-32A7-4996-9ECC-2E12A161E93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C9FA36-3A33-459D-8C9C-36FA55E43EE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FB63E7-898F-48CF-8AFC-B1E5D580DCA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5F8967-E8AB-4AAE-BA27-A9F198CBF4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71F48-19C1-42EA-BA17-703B250EBD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F2B201-5F27-4893-996D-61C92A6BEDB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F9E280-BED0-4B13-9FD6-CEE074CE5BE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959EA9-99D9-497A-8BE4-6842315B5B9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175AFC-06E3-49F1-8C5A-995DBB24AE0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228389-733F-4E7A-AC9B-5CDFA68BFE1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D6BF35-8B7E-450C-BA5D-E814150087E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E2A6E5-E6F7-4717-85E0-9DD68A6CE64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17A5CF-FE95-496C-86E1-97D29E8446E5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1492E0-7350-4538-87E6-48DE35DC4C5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7C6A4-CF8C-49A8-84A1-109F0AB5655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0B796C-F49F-4C93-B956-9DC6EBA674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C59-63C1-4A00-8971-CC273E29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EFB-932F-4DB0-8680-90501DF5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65E-975D-4676-B71C-3EE76F76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53D-9FE4-4D41-88DD-9596653D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8D7-9BEB-4F72-942E-EF327FBC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79E-C4EA-41ED-B83A-00627AD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E2A3-2E16-4F08-9643-1638432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9E1-E3EF-4AC7-A54A-7F579BA4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0E46-4C81-4B06-BBFF-2558761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2AE4-AAF6-434E-9701-07D523CE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24D-934A-40C1-B76B-2BF33A7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EA4-FB3C-43E7-878D-2B19710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84D3-6AFE-4461-8E5F-7EE3321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DFE-4D0F-4D81-85F1-29767909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708-830F-4BFC-9202-399F7B8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77F9-D721-4556-8497-91F0240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B83D-A352-4557-8866-775371DB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6B8-4AA9-462E-BB8F-9946DD3D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371-7ED8-4314-A47E-E0BAF20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89C-90C7-4796-8691-E4A0531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658-D9E9-4ED0-AA00-506C832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636-1FBE-4825-AC1E-3FA4C35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5BA-9354-45D8-A87D-4334907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1CC-150E-4D1B-B373-C65FF53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32C5-F0F9-4E2A-9A98-F47157C4A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1C8-1FA1-4072-B1E2-7647148A3CB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152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ose together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4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2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778040" y="3573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4300560" y="1844280"/>
            <a:ext cx="470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3321000" y="5231160"/>
            <a:ext cx="571500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ine similarity among 3 do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05320" y="1700280"/>
          <a:ext cx="5410080" cy="24368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similar a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nove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Pa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id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rejudi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</a:rPr>
              <a:t>W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Wuther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Heigh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992040" y="407664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Term frequencies (count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200240" y="6172200"/>
            <a:ext cx="70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Note: To simplify this example, we don</a:t>
            </a:r>
            <a:r>
              <a:rPr b="0" lang="ja-JP" sz="2000" spc="-1" strike="noStrike">
                <a:solidFill>
                  <a:srgbClr val="357e69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t do idf weight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094200" y="5084640"/>
                <a:ext cx="594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documents example contd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7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og frequency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2438280"/>
          <a:ext cx="4191120" cy="1857600"/>
        </p:xfrm>
        <a:graphic>
          <a:graphicData uri="http://schemas.openxmlformats.org/drawingml/2006/table">
            <a:tbl>
              <a:tblPr/>
              <a:tblGrid>
                <a:gridCol w="1185840"/>
                <a:gridCol w="909720"/>
                <a:gridCol w="1047600"/>
                <a:gridCol w="104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After length norma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45080" y="2438280"/>
          <a:ext cx="4268880" cy="1857600"/>
        </p:xfrm>
        <a:graphic>
          <a:graphicData uri="http://schemas.openxmlformats.org/drawingml/2006/table">
            <a:tbl>
              <a:tblPr/>
              <a:tblGrid>
                <a:gridCol w="1236600"/>
                <a:gridCol w="1011240"/>
                <a:gridCol w="1009800"/>
                <a:gridCol w="101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5" name="TextBox 14"/>
          <p:cNvSpPr/>
          <p:nvPr/>
        </p:nvSpPr>
        <p:spPr>
          <a:xfrm>
            <a:off x="76320" y="4626000"/>
            <a:ext cx="92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PaP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0.789 × 0.832 + 0.515 × 0.555 + 0.335 × 0.0 + 0.0 × 0.0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W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7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PaP,WH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6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, we store the IDF in memory, in terms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hich is actually the length of its posting list (so anyway needed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. Hence this means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1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query such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nly accumulate scores from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catcher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enefi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Postings of low-idf terms have many doc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these (many) docs get eliminated from set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of conten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2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337400" y="6359400"/>
            <a:ext cx="706140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3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3 out of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3 of 4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07600" y="2733840"/>
            <a:ext cx="92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45400" y="3267000"/>
            <a:ext cx="95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08040" y="380052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230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5" name="Group 51"/>
          <p:cNvGrpSpPr/>
          <p:nvPr/>
        </p:nvGrpSpPr>
        <p:grpSpPr>
          <a:xfrm>
            <a:off x="3276720" y="3267000"/>
            <a:ext cx="4917960" cy="398880"/>
            <a:chOff x="3276720" y="3267000"/>
            <a:chExt cx="4917960" cy="398880"/>
          </a:xfrm>
        </p:grpSpPr>
        <p:grpSp>
          <p:nvGrpSpPr>
            <p:cNvPr id="236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37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32"/>
            <p:cNvSpPr/>
            <p:nvPr/>
          </p:nvSpPr>
          <p:spPr>
            <a:xfrm>
              <a:off x="34264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41122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688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27112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36"/>
            <p:cNvSpPr/>
            <p:nvPr/>
          </p:nvSpPr>
          <p:spPr>
            <a:xfrm>
              <a:off x="5831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37"/>
            <p:cNvSpPr/>
            <p:nvPr/>
          </p:nvSpPr>
          <p:spPr>
            <a:xfrm>
              <a:off x="64530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38"/>
            <p:cNvSpPr/>
            <p:nvPr/>
          </p:nvSpPr>
          <p:spPr>
            <a:xfrm>
              <a:off x="71118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39"/>
            <p:cNvSpPr/>
            <p:nvPr/>
          </p:nvSpPr>
          <p:spPr>
            <a:xfrm>
              <a:off x="772128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0" name="Group 52"/>
          <p:cNvGrpSpPr/>
          <p:nvPr/>
        </p:nvGrpSpPr>
        <p:grpSpPr>
          <a:xfrm>
            <a:off x="3276720" y="2733840"/>
            <a:ext cx="4876560" cy="457200"/>
            <a:chOff x="3276720" y="2733840"/>
            <a:chExt cx="4876560" cy="457200"/>
          </a:xfrm>
        </p:grpSpPr>
        <p:grpSp>
          <p:nvGrpSpPr>
            <p:cNvPr id="251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52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7" name="Text Box 40"/>
            <p:cNvSpPr/>
            <p:nvPr/>
          </p:nvSpPr>
          <p:spPr>
            <a:xfrm>
              <a:off x="344232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41"/>
            <p:cNvSpPr/>
            <p:nvPr/>
          </p:nvSpPr>
          <p:spPr>
            <a:xfrm>
              <a:off x="40028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46616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43"/>
            <p:cNvSpPr/>
            <p:nvPr/>
          </p:nvSpPr>
          <p:spPr>
            <a:xfrm>
              <a:off x="520668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584352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45"/>
            <p:cNvSpPr/>
            <p:nvPr/>
          </p:nvSpPr>
          <p:spPr>
            <a:xfrm>
              <a:off x="645300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6895080" y="273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5" name="Text Box 48"/>
          <p:cNvSpPr/>
          <p:nvPr/>
        </p:nvSpPr>
        <p:spPr>
          <a:xfrm>
            <a:off x="330192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392076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52960" y="2133720"/>
            <a:ext cx="96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0" name="Group 52"/>
          <p:cNvGrpSpPr/>
          <p:nvPr/>
        </p:nvGrpSpPr>
        <p:grpSpPr>
          <a:xfrm>
            <a:off x="3276720" y="2133720"/>
            <a:ext cx="4876560" cy="456840"/>
            <a:chOff x="3276720" y="2133720"/>
            <a:chExt cx="4876560" cy="456840"/>
          </a:xfrm>
        </p:grpSpPr>
        <p:grpSp>
          <p:nvGrpSpPr>
            <p:cNvPr id="271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72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77" name="Text Box 40"/>
            <p:cNvSpPr/>
            <p:nvPr/>
          </p:nvSpPr>
          <p:spPr>
            <a:xfrm>
              <a:off x="345528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1"/>
            <p:cNvSpPr/>
            <p:nvPr/>
          </p:nvSpPr>
          <p:spPr>
            <a:xfrm>
              <a:off x="40028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2"/>
            <p:cNvSpPr/>
            <p:nvPr/>
          </p:nvSpPr>
          <p:spPr>
            <a:xfrm>
              <a:off x="46616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520668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4"/>
            <p:cNvSpPr/>
            <p:nvPr/>
          </p:nvSpPr>
          <p:spPr>
            <a:xfrm>
              <a:off x="58435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5"/>
            <p:cNvSpPr/>
            <p:nvPr/>
          </p:nvSpPr>
          <p:spPr>
            <a:xfrm>
              <a:off x="64530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6"/>
            <p:cNvSpPr/>
            <p:nvPr/>
          </p:nvSpPr>
          <p:spPr>
            <a:xfrm>
              <a:off x="6895080" y="21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Text Box 50"/>
          <p:cNvSpPr/>
          <p:nvPr/>
        </p:nvSpPr>
        <p:spPr>
          <a:xfrm>
            <a:off x="4582080" y="3809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6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87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90" name="Group 90" descr=""/>
          <p:cNvPicPr/>
          <p:nvPr/>
        </p:nvPicPr>
        <p:blipFill>
          <a:blip r:embed="rId1"/>
          <a:stretch/>
        </p:blipFill>
        <p:spPr>
          <a:xfrm>
            <a:off x="3876840" y="220032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91" name="Group 91" descr=""/>
          <p:cNvPicPr/>
          <p:nvPr/>
        </p:nvPicPr>
        <p:blipFill>
          <a:blip r:embed="rId2"/>
          <a:stretch/>
        </p:blipFill>
        <p:spPr>
          <a:xfrm>
            <a:off x="4486320" y="2200320"/>
            <a:ext cx="1854000" cy="2006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lex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simple total score combining cosine relevance and autho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et-scor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 =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PR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cosin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se some other linear combination than an equal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ow we seek the top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by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et sco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 (i.e. incr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9" name="AutoShape 5"/>
          <p:cNvCxnSpPr>
            <a:stCxn id="328" idx="1"/>
            <a:endCxn id="328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3" name="AutoShape 45"/>
          <p:cNvCxnSpPr>
            <a:stCxn id="332" idx="5"/>
            <a:endCxn id="312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AutoShape 46"/>
          <p:cNvCxnSpPr>
            <a:stCxn id="332" idx="6"/>
            <a:endCxn id="313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8"/>
          <p:cNvCxnSpPr>
            <a:stCxn id="332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50"/>
          <p:cNvCxnSpPr>
            <a:stCxn id="332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1"/>
          <p:cNvCxnSpPr>
            <a:stCxn id="332" idx="1"/>
            <a:endCxn id="306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2"/>
          <p:cNvCxnSpPr>
            <a:stCxn id="332" idx="1"/>
            <a:endCxn id="307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3"/>
          <p:cNvCxnSpPr>
            <a:stCxn id="325" idx="0"/>
            <a:endCxn id="332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0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Arial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Arial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5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assi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Content Placeholder 3" descr="queryexp.gif"/>
          <p:cNvPicPr/>
          <p:nvPr/>
        </p:nvPicPr>
        <p:blipFill>
          <a:blip r:embed="rId1"/>
          <a:stretch/>
        </p:blipFill>
        <p:spPr>
          <a:xfrm>
            <a:off x="125280" y="1600200"/>
            <a:ext cx="8866440" cy="2514600"/>
          </a:xfrm>
          <a:prstGeom prst="rect">
            <a:avLst/>
          </a:prstGeom>
          <a:ln w="0">
            <a:noFill/>
          </a:ln>
        </p:spPr>
      </p:pic>
      <p:sp>
        <p:nvSpPr>
          <p:cNvPr id="379" name="Up Arrow Callout 4"/>
          <p:cNvSpPr/>
          <p:nvPr/>
        </p:nvSpPr>
        <p:spPr>
          <a:xfrm>
            <a:off x="1126080" y="4362120"/>
            <a:ext cx="6672960" cy="1082880"/>
          </a:xfrm>
          <a:prstGeom prst="upArrowCallout">
            <a:avLst>
              <a:gd name="adj1" fmla="val 23567"/>
              <a:gd name="adj2" fmla="val 23593"/>
              <a:gd name="adj3" fmla="val 25000"/>
              <a:gd name="adj4" fmla="val 700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ould you expect such a feature to increase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lume at a search engin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2 and 6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ilarity between binary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cument is 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doc-similarity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23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23554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19T08:04:46Z</dcterms:modified>
  <cp:revision>1163</cp:revision>
  <dc:subject/>
  <dc:title>Web Algorithmics</dc:title>
</cp:coreProperties>
</file>